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DB1-47F3-4417-9432-54F37EEE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C12-26AB-4A74-97B7-D6F5D78F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8AA-B585-4FF9-BA84-23E0E3F3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791-5C1D-460B-A07F-87C8968D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F18-B867-46AD-BF33-ACED22C5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A19-8A79-42B7-9133-BED4752D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12F-96BE-41E6-BACB-69FA4431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871-CD00-4CB0-9FFB-E0581CC3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D96-B54D-4B8B-94D4-87FBC4EC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5F9-3CDD-43E6-A192-B4A248F4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2DC-CCF6-42FE-87BC-A912DD68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164-0CF1-4EB2-8379-D5516827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55B3-FA50-4E62-81C3-AB08EA72A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loorplanner.com/" TargetMode="External"/><Relationship Id="rId2" Type="http://schemas.openxmlformats.org/officeDocument/2006/relationships/hyperlink" Target="http://floorplanner.com/" TargetMode="External"/><Relationship Id="rId3" Type="http://schemas.openxmlformats.org/officeDocument/2006/relationships/hyperlink" Target="http://floorplanner.com/" TargetMode="External"/><Relationship Id="rId4" Type="http://schemas.openxmlformats.org/officeDocument/2006/relationships/hyperlink" Target="http://floorplanner.com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69780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εφαρμογή που χρησιμοποιήσαμε είναι το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R PLANN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Είναι μια εφαρμογή η οποία χρησιμεύει στην σχεδίαση  κτηρίων σε μορφή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αι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ρχικά πρέπει να φτιάξετε  έναν λογαριασμό  στην σελιδα  </a:t>
            </a:r>
            <a:r>
              <a:rPr b="0" lang="el-G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</a:t>
            </a:r>
            <a:r>
              <a:rPr b="0" lang="el-G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/</a:t>
            </a:r>
            <a:r>
              <a:rPr b="0" lang="el-GR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loorplanner.com</a:t>
            </a:r>
            <a:r>
              <a:rPr b="0" lang="el-GR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φού σας δοθεί η έγκριση μπορείτε να αρχίσετε να φτιάχνετε το κτήριο  της αρεσκείας σας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πορείτε να προσθέσετε τα έπιπλα και στην συνέχεια μπορείτε να βάλετε  πόρτες και τζάμι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έλος   σχεδιάστε  τον εξωτερικό  χώρο όπως σας αρέσε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R PLANNE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ίναι πολύ  χρήσιμη εφαρμογή στο εκπαιδευτικό σύστημα . αφού μπορεί να χρησιμοποιηθεί στα μαθήματα που έχουν σχέση με το σχέδιο όπως το μάθημα επιλογής της β τάξης του γενικού λυκείου  και Τα εικαστικά που διδάσκονται  σε όλες τις τάξεις του γυμνασίου .Συμπερασματικά η εφαρμογή αυτή είναι πολύ  εύχρηστ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10:05:49Z</dcterms:created>
  <dc:creator>Μαθητής Β' Λυκείου</dc:creator>
  <dc:description/>
  <dc:language>en-US</dc:language>
  <cp:lastModifiedBy>Μαθητής Β' Λυκείου</cp:lastModifiedBy>
  <dcterms:modified xsi:type="dcterms:W3CDTF">2014-01-22T10:05:49Z</dcterms:modified>
  <cp:revision>2</cp:revision>
  <dc:subject/>
  <dc:title>Διαφάνεια 1</dc:title>
</cp:coreProperties>
</file>